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388-7E6C-4393-8A06-17BE9137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3BB3-E8D2-49D6-AA96-955FCD7C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AD1C-00CE-43A6-8786-A49498BF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08C-C48C-42BE-B262-1B7C92B9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7724-5D8B-4BDB-8C70-463E7E51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30F-443D-4C1F-B585-AAFACBF1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8B0-386C-4834-92A3-A0DA2165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751-7F4D-4756-B6D6-AAF53242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61F-A853-465B-BBE9-63A31044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E21-C821-44EC-BDE4-CD0224E8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365-DC61-4005-A5D5-A888A8D3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3C46-10C2-4670-86E2-1B0F937A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A848-3DA9-4438-BC1A-A42487DFA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5 – India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gan Per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z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uddhist center of prayer and stu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http://www.google.com/url?source=imglanding&amp;ct=img&amp;q=http://www.indiamike.com/files/images/80/34/21/three-backpackers-at-punakha-dzong.preview.jpg&amp;sa=X&amp;ei=GXbhTt7GKsKCtgegn6ToBA&amp;ved=0CAsQ8wc&amp;usg=AFQjCNHuMk8f5JC4QTKZEnO0ucLyVQXONg"/>
          <p:cNvPicPr/>
          <p:nvPr/>
        </p:nvPicPr>
        <p:blipFill>
          <a:blip r:embed="rId1"/>
          <a:stretch/>
        </p:blipFill>
        <p:spPr>
          <a:xfrm>
            <a:off x="1523880" y="1447920"/>
            <a:ext cx="572292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s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easonal wind that blows for months at a time, affecting the clim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http://www.google.com/url?source=imglanding&amp;ct=img&amp;q=http://www.indiamike.com/india/attachments/1226d1089869973-kolkata-and-varanasi-during-monsoon-flood1.jpg&amp;sa=X&amp;ei=1W_hToOfEsmCtgeL8vzCBA&amp;ved=0CAsQ8wc&amp;usg=AFQjCNHr_dIwry9LTsxeAeFJd6uufYFwfQ"/>
          <p:cNvPicPr/>
          <p:nvPr/>
        </p:nvPicPr>
        <p:blipFill>
          <a:blip r:embed="rId1"/>
          <a:stretch/>
        </p:blipFill>
        <p:spPr>
          <a:xfrm>
            <a:off x="1676520" y="1752480"/>
            <a:ext cx="5857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nt fiber used for making robe, burlap bags, etc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63360" y="-84780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63360" y="-84780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ndia-jute-cultivation-2009-9-29-9-12-21.jpg"/>
          <p:cNvPicPr/>
          <p:nvPr/>
        </p:nvPicPr>
        <p:blipFill>
          <a:blip r:embed="rId1"/>
          <a:stretch/>
        </p:blipFill>
        <p:spPr>
          <a:xfrm>
            <a:off x="1981080" y="1676520"/>
            <a:ext cx="52405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ttage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ome or village based industry where family members make their own go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http://www.google.com/url?source=imglanding&amp;ct=img&amp;q=http://cf1.netmegs.com/memestream/bag-making.jpg&amp;sa=X&amp;ei=h3LhTvD5JYybtwe8kqXnAw&amp;ved=0CAwQ8wc&amp;usg=AFQjCNEmZ6qBXTOcXzx8slN170WfKBCH9A"/>
          <p:cNvPicPr/>
          <p:nvPr/>
        </p:nvPicPr>
        <p:blipFill>
          <a:blip r:embed="rId1"/>
          <a:stretch/>
        </p:blipFill>
        <p:spPr>
          <a:xfrm>
            <a:off x="1752480" y="1752480"/>
            <a:ext cx="548640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ocial class that is based on your ances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http://www.google.com/url?source=imglanding&amp;ct=img&amp;q=http://nataliepeart.files.wordpress.com/2011/10/caste_system-oo4t9n.jpg&amp;sa=X&amp;ei=aHPhTqbmFYPqtgeZzqjnBA&amp;ved=0CAwQ8wc&amp;usg=AFQjCNHNJAJQbCmO8YV8DKNJ6CKZTnRjJg"/>
          <p:cNvPicPr/>
          <p:nvPr/>
        </p:nvPicPr>
        <p:blipFill>
          <a:blip r:embed="rId1"/>
          <a:stretch/>
        </p:blipFill>
        <p:spPr>
          <a:xfrm>
            <a:off x="2362320" y="1295280"/>
            <a:ext cx="42670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ncar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ef in the rebirth of a person’s soul in a new body after dea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http://www.google.com/url?source=imglanding&amp;ct=img&amp;q=http://www.ifimages.com/photos/u1KdddDdsvNhplG5lHXcXDhFx2Y/author-519/Durga-Kali-India-Reincarnation.jpg&amp;sa=X&amp;ei=QnThTrDUAci5tgeA6OTpBA&amp;ved=0CAsQ8wc&amp;usg=AFQjCNFsDx5dv-jXZGbZegNBN51KHQikIA"/>
          <p:cNvPicPr/>
          <p:nvPr/>
        </p:nvPicPr>
        <p:blipFill>
          <a:blip r:embed="rId1"/>
          <a:stretch/>
        </p:blipFill>
        <p:spPr>
          <a:xfrm>
            <a:off x="2743200" y="1295280"/>
            <a:ext cx="35053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tense storm system with heavy rain and high wi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http://www.google.com/url?source=imglanding&amp;ct=img&amp;q=http://eoimages.gsfc.nasa.gov/images/imagerecords/10000/10511/IndiaCyclone_trm2002316_lrg.jpg&amp;sa=X&amp;ei=zHThTrG4L86CtgfngJ2oBQ&amp;ved=0CAwQ8wc&amp;usg=AFQjCNEpTzdNo_p3SeRtmYWfuCs_F4r6ZQ"/>
          <p:cNvPicPr/>
          <p:nvPr/>
        </p:nvPicPr>
        <p:blipFill>
          <a:blip r:embed="rId1"/>
          <a:stretch/>
        </p:blipFill>
        <p:spPr>
          <a:xfrm>
            <a:off x="2209680" y="1447920"/>
            <a:ext cx="44658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stic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ful chemicals that kill crop-destroying ins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http://www.google.com/url?source=imglanding&amp;ct=img&amp;q=http://cdn.wn.com/pd/b3/e4/6dd96c5c09d3bfb54ca0772edf58_grande.jpg&amp;sa=X&amp;ei=p3XhTvbjFcKhtwf-1fH1BA&amp;ved=0CAwQ8wc&amp;usg=AFQjCNFEGktYCZRZ6lJoSZy3kHCU278jLw"/>
          <p:cNvPicPr/>
          <p:nvPr/>
        </p:nvPicPr>
        <p:blipFill>
          <a:blip r:embed="rId1"/>
          <a:stretch/>
        </p:blipFill>
        <p:spPr>
          <a:xfrm>
            <a:off x="1295280" y="1523880"/>
            <a:ext cx="60087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BHISD</cp:lastModifiedBy>
  <dcterms:modified xsi:type="dcterms:W3CDTF">2011-12-09T15:44:58Z</dcterms:modified>
  <cp:revision>16</cp:revision>
  <dc:subject/>
  <dc:title>Chapter 5 – India Vocabulary</dc:title>
</cp:coreProperties>
</file>